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A7D74-F233-466B-985F-636F48ECE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6EB3B-3B49-4D74-A62B-1C503FCD2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25BB9-2E88-49B0-A289-C3B4ED587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F42DE-C1D0-457E-90D2-0A1DE0E32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FD5A4-8C17-4B88-9EB6-B7A6DC523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BB0FC-AC47-4975-B2D1-90ED312D6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8B9C2-E2E3-4CCB-AB70-D9770256D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3E02D-7E88-47BA-AA4C-D249463A8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D699E-F462-49BF-B896-B36E6D732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EE846-51BC-4681-A076-3CA01EDFB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A77C7-6022-420B-B818-617232A7D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409DB-C1B1-4F49-AB9B-102BDF121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B778D-472F-4FCF-8914-EA21BD3FF3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 flipH="1">
            <a:off x="4572000" y="1219320"/>
            <a:ext cx="2362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990720"/>
            <a:ext cx="99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ce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1447560" y="1447920"/>
            <a:ext cx="14475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219320"/>
            <a:ext cx="106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rice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1447560" y="3048120"/>
            <a:ext cx="14475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819520"/>
            <a:ext cx="106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end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1523520" y="5105520"/>
            <a:ext cx="2590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4876920"/>
            <a:ext cx="106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ubit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2160" y="533520"/>
            <a:ext cx="2971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858000" y="30492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umér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1447560" y="2438280"/>
            <a:ext cx="1981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22096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Liga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4723920" y="2895480"/>
            <a:ext cx="22100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858000" y="26668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rtilage articulaire de l’humér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1447920" y="3886200"/>
            <a:ext cx="228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" y="3505320"/>
            <a:ext cx="1447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rtilage articulaire du cubit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4952880" y="3733920"/>
            <a:ext cx="1981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858000" y="350532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ynovi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295280" y="6095880"/>
            <a:ext cx="6477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HÉMA D’UNE ARTICULATION : LE COU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3T08:48:34Z</dcterms:created>
  <dc:creator>jourdan</dc:creator>
  <dc:description/>
  <dc:language>en-US</dc:language>
  <cp:lastModifiedBy>jourdan</cp:lastModifiedBy>
  <dcterms:modified xsi:type="dcterms:W3CDTF">2002-07-13T09:14:33Z</dcterms:modified>
  <cp:revision>18</cp:revision>
  <dc:subject/>
  <dc:title>Présentation PowerPoint</dc:title>
</cp:coreProperties>
</file>