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36C-073F-464C-8157-89E2448E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4CE-8BC0-45D2-8288-23C7BF7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FC3-86E7-406B-8D93-73A765A1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1BD-9C7C-4052-BED1-600B1C9E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49E-08C1-4554-A45A-9544EAE4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F8E-C5D1-481E-926D-1D7A5EB2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8E4-E321-46C9-A500-45169EA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FBC-BEC3-4C71-96BB-A4F5F01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353-AABD-43C0-A842-1EBEB6B2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62C-AC97-4AF8-A160-0AD9ABD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6B2-AA0F-49E2-9152-4D32B38E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EB8-9D96-453A-B1FA-933D67F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B116-0D6E-478D-8B0C-D0698D441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4572000" y="1219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c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447560" y="14479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ic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447560" y="30481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8195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5235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876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bi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2160" y="53352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04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umé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096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g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723920" y="28954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666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tilage articulaire de l’humé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47920" y="38862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05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tilage articulaire du cubi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373392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ov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60958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HÉMA D’UNE ARTICULATION : LE CO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48:34Z</dcterms:created>
  <dc:creator>jourdan</dc:creator>
  <dc:description/>
  <dc:language>en-US</dc:language>
  <cp:lastModifiedBy>jourdan</cp:lastModifiedBy>
  <dcterms:modified xsi:type="dcterms:W3CDTF">2002-07-13T09:14:33Z</dcterms:modified>
  <cp:revision>18</cp:revision>
  <dc:subject/>
  <dc:title>Présentation PowerPoint</dc:title>
</cp:coreProperties>
</file>